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ct" ContentType="image/x-pict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E6CCA-C06F-4B69-9A75-71C6EB163B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st an idea – we can choose any design or the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80494-17AB-48A7-835A-F5AABBA8DD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ADB8B-7C75-42B7-8843-9847D6941F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EA6A5-A663-48B5-808F-C4E6D9165B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don’t know if we want to use this, but I thought it looked cool and it has a lot of good inf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BFFA7-42E9-416B-AB8F-93BF530B11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94D2-A421-4971-880C-EB8E427B4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F290-9BA0-403D-814D-689E66DC1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BFCC-5417-42D9-B609-A25CA4B7F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D569-0F52-4F50-AC67-258C63954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CE708-EB07-4CD0-9ACF-7ACB51F4B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9CBB5-43E6-479D-8E2A-6FC6ECDFC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0EAF7-7F15-496D-8E74-7400FF582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58EF7-BD11-42D8-84D3-502548457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05413-095E-4600-8A44-6356A2663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9141F-4939-461B-86A2-3D23F9A1E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A098F-1E6E-444B-893C-14CEB5991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A486-9E30-4923-A860-3D302A006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45750-437F-43DC-91F2-843BC636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CCC38-6E0B-489C-955A-3E7D29174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A3149-5154-43F5-877A-3AB98FC33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F58E0-0B5F-49E6-BE5C-82CAC7637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1F6CD-1ADA-4B0C-9441-F5FDDCD96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C7EFE0-6A0B-4599-B136-EA779452C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A579CB-5CCD-46AD-BCFE-5D9F12CCD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E0674C-9AF5-4D78-B837-D3965C338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A5A9DC-8098-48C1-AEFC-32CE81FF7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23D93B-B272-49BE-97A1-32B4AF28A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9A54-C6B4-474D-956D-3F9A00424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AEF7BE-FBBC-46E9-97BC-A99D550E4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64266C-2840-4472-A496-6E7882E1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CA487C-A177-4043-814B-BE41562C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09CCDF-AD99-44A1-915C-D59A6DC0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9A720A-062F-479D-A850-A51F3814F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22E005-0FD5-460C-93D6-D237FA1AC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B9CEF0-E6CA-4AF2-A8C4-2A520F872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E2FC6E-B32B-4054-8E9B-11465786F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72C013-DC87-4A94-A12D-58FBC7BD8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81F0A0-AD92-4C16-A920-AC7C6FEB8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793B-7926-4849-A1FC-57C15BE4A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CAD0A6-9B38-4998-8CE0-C0F5CD619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85F291-821F-4BD4-ADCD-749C10AE9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CAEE72-A8F1-4273-8329-88B93A185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014E5D-B049-4A07-A8C0-562349AB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AD0400-76C8-4CA4-972A-82C426563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4683D1-4C6C-4E9F-8C6F-E99D7B8F1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BC8694-3616-4C51-BD3E-96B563997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D770AD-DC2D-4785-A73C-D6D8F0774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8D7D67-43BA-4F70-9FB9-3B0F08921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AE1167-280A-4BA5-9C76-681CE92DF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71EF-E834-48BE-88D3-5D3639DEB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0A57BD-2190-4F91-A0E3-698F0B3E0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8845D9-F370-40E1-9D64-80A44541A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000DAA-9E76-41F3-9B48-4A0EBB2B9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B6298E-5108-454F-A32A-70F058584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99EE4C-4BC1-4E4B-8D73-768D1336E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BEFC3C-E977-470B-B5BF-D34EAEE0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365497-723C-4D63-8301-B57B313F1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B53496-6529-465D-8F9A-84727FBD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80A000-17EF-4E98-B9D0-8B7C531CC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AF41DC-0E21-4487-81A6-87185FA0E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3186-6179-470F-BD11-E1CD8C0DF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E72D84-B2D5-47D5-AFD6-35C7D844F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89919F-36BC-4BA4-9C4A-AFD75C4B8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00E5EA-B8AD-452E-B0B2-933D96851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F8CF46-508A-498C-A27D-94D604101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FA52DA-53D3-422B-9CCE-091B6D85C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1F7A77-217C-4BE3-9BCF-8FEF4151D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BF63F7-2E49-47B5-BE16-C7D223DEB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B17FD8-8109-4ECA-89CB-598EA070D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88FC4F-CD65-46D2-9C9F-2561D1C70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A61BB8-C815-4E64-8BEC-CB1C3C9A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A04D-8D3C-4124-B525-D54EFFCE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B4CD14-ED07-456C-A3EF-C1A525B1E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35331D-7074-4364-8BF9-A6661DB60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B49A8D-33E6-4597-B60F-EF45EA0E6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79E624-97C1-45D6-9F67-F587035F6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B0E67C-BC20-4E9D-B611-3E2687147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E8445A-994D-42AD-8BDB-DC1C94A20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8A726C-0E86-4485-A5A6-DB0C53AC7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A6CF3F-F1B9-4DF2-B480-424803FC2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EE48E3-1617-47EE-BB99-EB94A3656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A5E957-07BE-4D60-8520-FDAFCDD9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2C5E-D663-4134-A75B-7851A258C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54C8E6-F0BD-4618-9FC3-528EA6A14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77E111-1175-43CD-BBE2-C863560A8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C49924-5C72-401D-9E42-9CFE70DBC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E02B87-2EC9-4D36-A586-6F8FEDBB3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7CC7E7-6A5A-4EAF-A9B3-3B4C781E7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816854-0E2E-4693-8AE3-D888AD86B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7FB03C-89B5-4679-8600-2881134D5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806643-564C-499E-905F-96BBA722A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72AD69-885E-4F15-96C1-9824B2BD8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AC1865-CC26-437E-BD2C-CA185F633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F4E0-92C7-4C08-8F49-7A1880A8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9271D6-22EB-41E4-A88D-7E3608D0B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35005C-000C-4641-B63B-2532DFA30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B42667-0C9C-4F90-96F5-9C07D4A3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D951D0-0451-4A21-82CE-3B4A2F4D0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7045C3-8A1B-4B56-92B0-54DC72EDE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2335D5-852A-493A-8503-03BF0EF40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7BB3BD-9983-46CF-8030-0B6D4B039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BA1C3-BBBB-478A-B1BB-F201E8B4AEC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E4745-7D25-4CAC-B0E1-B1C418D48AB2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E0216-5990-40E0-9FC8-9115C778B7E2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D3D78-66E3-4111-81FA-508DB43D66C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A53D6-E6F4-410A-A7E2-54C2CD654FE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2F173-34D0-4368-A015-049A9DB5874B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4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79FA0-B997-49F9-86D7-25AFF16B6EC1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E9BA9-4646-4BFE-8C23-ECE7F0E0BC2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SIRSI DYNIX SYMPHONY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The library automation system we need.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	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Other Notable Features--</a:t>
            </a:r>
            <a:br>
              <a:rPr sz="4400"/>
            </a:b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	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InfOhio (SchoolRooms)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The statewide library network in Ohio, INFOhio, and SirsiDynix launched a new learning site with an assortment of resources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All of these resources are available from one single portal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SchoolRooms has 70 rooms full of educational material where students can find information on almost any topic they are looking for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Teachers, students, and even parents have access to these room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Every INFOhio automated school has access to this portal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atalog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rsiDynix StaffWeb has cataloging abilities that support library staff in maintaining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itle and copy record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dd or maintain title, copy, and MARC record information for a titl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llows for cataloging reports for lost or missing reports, reading programs, and shelf list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ircula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765680" y="1600200"/>
            <a:ext cx="4000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02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SirsiDynix PocketCirc is a wireless handheld device that allows library staff to: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Conduct daily circulation procedures and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Inventory projects both online and offline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All without having to be at a desktop workstation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3" name="Text Placeholder 12" descr=""/>
          <p:cNvPicPr/>
          <p:nvPr/>
        </p:nvPicPr>
        <p:blipFill>
          <a:blip r:embed="rId1"/>
          <a:srcRect l="537594" t="200671" r="0" b="335570"/>
          <a:stretch/>
        </p:blipFill>
        <p:spPr>
          <a:xfrm>
            <a:off x="304920" y="2362320"/>
            <a:ext cx="430524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ircula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SirsiDynix StaffWeb has circulation abilities to support library staff in: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Checking copies in and out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Screening the status of copie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Placing hold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Maintaining and screening patron account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Adding short title record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Allows for the following circulation reports: copies on loan, copies on hold, copy status, copies in transit, fine list, and overdue list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Repor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reports generated would be highly effective decision making tool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e have the ability to customize the reports to fit our need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program comes with more than 600 standard reports and utilitie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Report Capabiliti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llection analys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Determine if the library holdings support the curriculum of the school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Periodically determine the age of the collectio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Serials collection evaluatio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cquisitions budge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Determine at any point in time the state of the budget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ircula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Determine usage of the collection, including overall numbers and statistics for particular subject areas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144360" y="152280"/>
            <a:ext cx="8825040" cy="6529680"/>
          </a:xfrm>
          <a:prstGeom prst="rect">
            <a:avLst/>
          </a:prstGeom>
          <a:ln w="0">
            <a:noFill/>
          </a:ln>
        </p:spPr>
      </p:pic>
      <p:sp>
        <p:nvSpPr>
          <p:cNvPr id="371" name="TextBox 9"/>
          <p:cNvSpPr/>
          <p:nvPr/>
        </p:nvSpPr>
        <p:spPr>
          <a:xfrm>
            <a:off x="1143000" y="648828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http://www.sirsidynix.com/Solutions/Products/integratedsystems.php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Patr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SirsiDynix Symphony with the assistance of the PocketCirc benefits out patrons by: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Allowing new users to be registered on the spot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Continue helping patrons when network problems or power outages occur -- Circulation tasks can be completed in offline mode and uploaded at a later time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Allows patrons to be assisted in finding materials and then receive on-the-spot checkout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	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Other Notable Features--</a:t>
            </a:r>
            <a:br>
              <a:rPr sz="4400"/>
            </a:b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	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	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	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hiliFresh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93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ChiliFresh Review Engine: a complete social network embedded directly in a library's catalog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Embed patron-written book reviews directly into catalog record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Incorporate a number of social networking features such as: profiles, content lists, chat and messaging options, and forums for book discussion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Users will utilize these features from The Bookshelf and will be able to gather and make reviews on favorite works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Recommendations and suggestions from friends and other users with related interests can be accessed from The Bookshelf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7T19:46:36Z</dcterms:created>
  <dc:creator>lisa brennan</dc:creator>
  <dc:description/>
  <dc:language>en-US</dc:language>
  <cp:lastModifiedBy>Jamie Fleming</cp:lastModifiedBy>
  <dcterms:modified xsi:type="dcterms:W3CDTF">2009-07-08T16:56:28Z</dcterms:modified>
  <cp:revision>9</cp:revision>
  <dc:subject/>
  <dc:title>Slide 1</dc:title>
</cp:coreProperties>
</file>